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92000" y="836280"/>
            <a:ext cx="52830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000000"/>
                </a:solidFill>
                <a:latin typeface="Arial"/>
                <a:ea typeface="宋体"/>
              </a:rPr>
              <a:t>位置与方向（二）</a:t>
            </a:r>
            <a:endParaRPr b="0" lang="en-US" sz="4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" name="TextBox 3"/>
          <p:cNvSpPr/>
          <p:nvPr/>
        </p:nvSpPr>
        <p:spPr>
          <a:xfrm>
            <a:off x="755640" y="2205000"/>
            <a:ext cx="403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例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3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路线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" name="Picture 5" descr="\\192.168.1.3\临时中转站1_以本人姓名建目录\开发中心-多媒体部\02美术部\晨会文件\04宁煌\人教数学教参\02.png"/>
          <p:cNvPicPr/>
          <p:nvPr/>
        </p:nvPicPr>
        <p:blipFill>
          <a:blip r:embed="rId2"/>
          <a:stretch/>
        </p:blipFill>
        <p:spPr>
          <a:xfrm>
            <a:off x="826920" y="981000"/>
            <a:ext cx="785880" cy="785880"/>
          </a:xfrm>
          <a:prstGeom prst="rect">
            <a:avLst/>
          </a:prstGeom>
          <a:ln w="0">
            <a:noFill/>
          </a:ln>
        </p:spPr>
      </p:pic>
      <p:sp>
        <p:nvSpPr>
          <p:cNvPr id="41" name=""/>
          <p:cNvSpPr/>
          <p:nvPr/>
        </p:nvSpPr>
        <p:spPr>
          <a:xfrm>
            <a:off x="7072560" y="3500280"/>
            <a:ext cx="56160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929640" y="4221000"/>
            <a:ext cx="56160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500040" y="357120"/>
            <a:ext cx="407196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一、情境引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26"/>
          <p:cNvSpPr/>
          <p:nvPr/>
        </p:nvSpPr>
        <p:spPr>
          <a:xfrm>
            <a:off x="285840" y="5947920"/>
            <a:ext cx="92152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问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想一想，在说台风移动路线时，都要说明什么？（方向，距离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71640" y="1413000"/>
            <a:ext cx="6624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此次台风的大致路径如下图。你能用自己的语言说说台风的移动路线吗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50920" y="2060640"/>
            <a:ext cx="8319960" cy="39592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7072560" y="3500280"/>
            <a:ext cx="56160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288560" y="3716280"/>
            <a:ext cx="56160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500040" y="357120"/>
            <a:ext cx="479268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二、探究新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26"/>
          <p:cNvSpPr/>
          <p:nvPr/>
        </p:nvSpPr>
        <p:spPr>
          <a:xfrm>
            <a:off x="5292720" y="2384640"/>
            <a:ext cx="36720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问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台风生成后，先是怎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移动的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6"/>
          <p:cNvSpPr/>
          <p:nvPr/>
        </p:nvSpPr>
        <p:spPr>
          <a:xfrm>
            <a:off x="5435640" y="3191040"/>
            <a:ext cx="37083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然后台风改变了方向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又是怎样移动的？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6"/>
          <p:cNvSpPr/>
          <p:nvPr/>
        </p:nvSpPr>
        <p:spPr>
          <a:xfrm>
            <a:off x="5435640" y="3969000"/>
            <a:ext cx="37083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最后台风是怎样移动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到达了哪里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6"/>
          <p:cNvSpPr/>
          <p:nvPr/>
        </p:nvSpPr>
        <p:spPr>
          <a:xfrm>
            <a:off x="5425920" y="4724640"/>
            <a:ext cx="38880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你能照样子完整的说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说台风移动的路线吗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324000" y="2133720"/>
            <a:ext cx="4689360" cy="4496760"/>
            <a:chOff x="324000" y="2133720"/>
            <a:chExt cx="4689360" cy="4496760"/>
          </a:xfrm>
        </p:grpSpPr>
        <p:pic>
          <p:nvPicPr>
            <p:cNvPr id="55" name="" descr=""/>
            <p:cNvPicPr/>
            <p:nvPr/>
          </p:nvPicPr>
          <p:blipFill>
            <a:blip r:embed="rId2"/>
            <a:stretch/>
          </p:blipFill>
          <p:spPr>
            <a:xfrm>
              <a:off x="324000" y="2133720"/>
              <a:ext cx="4689360" cy="223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" descr=""/>
            <p:cNvPicPr/>
            <p:nvPr/>
          </p:nvPicPr>
          <p:blipFill>
            <a:blip r:embed="rId3"/>
            <a:stretch/>
          </p:blipFill>
          <p:spPr>
            <a:xfrm>
              <a:off x="395280" y="4292280"/>
              <a:ext cx="4545000" cy="233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" name=""/>
          <p:cNvSpPr/>
          <p:nvPr/>
        </p:nvSpPr>
        <p:spPr>
          <a:xfrm>
            <a:off x="539640" y="1484280"/>
            <a:ext cx="1728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描述路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357120" y="284040"/>
            <a:ext cx="8371080" cy="62802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43080" y="281160"/>
            <a:ext cx="8400960" cy="62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500040" y="357120"/>
            <a:ext cx="479268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二、探究新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035000" y="2708280"/>
            <a:ext cx="6993000" cy="3598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319760" y="1557360"/>
            <a:ext cx="13723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画路线示意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072560" y="3500280"/>
            <a:ext cx="56160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000920" y="4941720"/>
            <a:ext cx="56160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2"/>
          <p:cNvSpPr/>
          <p:nvPr/>
        </p:nvSpPr>
        <p:spPr>
          <a:xfrm>
            <a:off x="500040" y="357120"/>
            <a:ext cx="479268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三、巩固练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1436760" y="1476360"/>
            <a:ext cx="4681440" cy="21589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799920" y="1574280"/>
            <a:ext cx="4352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001880" y="3384720"/>
            <a:ext cx="75610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）根据上面的路线图，说一说小玲从家去书店和回来时所走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方向和路程，并完成下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704960" y="4187880"/>
          <a:ext cx="5400720" cy="2050920"/>
        </p:xfrm>
        <a:graphic>
          <a:graphicData uri="http://schemas.openxmlformats.org/drawingml/2006/table">
            <a:tbl>
              <a:tblPr/>
              <a:tblGrid>
                <a:gridCol w="1584360"/>
                <a:gridCol w="1353960"/>
                <a:gridCol w="1095480"/>
                <a:gridCol w="1366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方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路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时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家→商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商场→书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7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书店→商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8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商场→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8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全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" name=""/>
          <p:cNvSpPr/>
          <p:nvPr/>
        </p:nvSpPr>
        <p:spPr>
          <a:xfrm>
            <a:off x="938160" y="6254640"/>
            <a:ext cx="5649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）小玲走完全程的平均速度是多少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14600" y="4498920"/>
            <a:ext cx="136836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西偏北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30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754520" y="4498920"/>
            <a:ext cx="136836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1000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14600" y="4815000"/>
            <a:ext cx="136836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西偏南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45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840200" y="4815000"/>
            <a:ext cx="136836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400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409920" y="5173560"/>
            <a:ext cx="136836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东偏北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45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419640" y="5526000"/>
            <a:ext cx="136836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西偏南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30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840200" y="5165640"/>
            <a:ext cx="136836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400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745160" y="5510160"/>
            <a:ext cx="136836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1000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754520" y="5848200"/>
            <a:ext cx="136836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2800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102360" y="5862600"/>
            <a:ext cx="136836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48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728640" y="156852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路公共汽车从起点站向西偏北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0°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行驶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km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后向西行驶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km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最后向南偏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0°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行驶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km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到达终点站。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）根据上面的描述，把公共汽车行驶的路线图画完整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500040" y="357120"/>
            <a:ext cx="479268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三、巩固练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85640" y="1574280"/>
            <a:ext cx="4352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659560" y="4348080"/>
            <a:ext cx="1079280" cy="1079640"/>
            <a:chOff x="5659560" y="4348080"/>
            <a:chExt cx="1079280" cy="1079640"/>
          </a:xfrm>
        </p:grpSpPr>
        <p:sp>
          <p:nvSpPr>
            <p:cNvPr id="85" name=""/>
            <p:cNvSpPr/>
            <p:nvPr/>
          </p:nvSpPr>
          <p:spPr>
            <a:xfrm>
              <a:off x="5659560" y="4889520"/>
              <a:ext cx="1079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235560" y="4348080"/>
              <a:ext cx="0" cy="1079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"/>
          <p:cNvSpPr/>
          <p:nvPr/>
        </p:nvSpPr>
        <p:spPr>
          <a:xfrm flipV="1">
            <a:off x="6523200" y="3193920"/>
            <a:ext cx="0" cy="433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291360" y="2825640"/>
            <a:ext cx="504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42920" y="2852640"/>
            <a:ext cx="6505560" cy="2808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295160" y="5776920"/>
            <a:ext cx="10047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）根据路线图，说一说公共汽车沿原路返回时所行驶的方向和路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1932120" y="4797360"/>
            <a:ext cx="720720" cy="441000"/>
            <a:chOff x="1932120" y="4797360"/>
            <a:chExt cx="720720" cy="441000"/>
          </a:xfrm>
        </p:grpSpPr>
        <p:grpSp>
          <p:nvGrpSpPr>
            <p:cNvPr id="92" name=""/>
            <p:cNvGrpSpPr/>
            <p:nvPr/>
          </p:nvGrpSpPr>
          <p:grpSpPr>
            <a:xfrm>
              <a:off x="2057400" y="5167080"/>
              <a:ext cx="360360" cy="71280"/>
              <a:chOff x="2057400" y="5167080"/>
              <a:chExt cx="360360" cy="71280"/>
            </a:xfrm>
          </p:grpSpPr>
          <p:sp>
            <p:nvSpPr>
              <p:cNvPr id="93" name=""/>
              <p:cNvSpPr/>
              <p:nvPr/>
            </p:nvSpPr>
            <p:spPr>
              <a:xfrm>
                <a:off x="2057400" y="5238360"/>
                <a:ext cx="360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2057400" y="5167080"/>
                <a:ext cx="0" cy="71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2417760" y="5167080"/>
                <a:ext cx="0" cy="71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1932120" y="4797360"/>
              <a:ext cx="72072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k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5392800" y="4157640"/>
            <a:ext cx="849960" cy="856800"/>
            <a:chOff x="5392800" y="4157640"/>
            <a:chExt cx="849960" cy="856800"/>
          </a:xfrm>
        </p:grpSpPr>
        <p:grpSp>
          <p:nvGrpSpPr>
            <p:cNvPr id="98" name=""/>
            <p:cNvGrpSpPr/>
            <p:nvPr/>
          </p:nvGrpSpPr>
          <p:grpSpPr>
            <a:xfrm>
              <a:off x="5392800" y="4157640"/>
              <a:ext cx="849960" cy="781920"/>
              <a:chOff x="5392800" y="4157640"/>
              <a:chExt cx="849960" cy="781920"/>
            </a:xfrm>
          </p:grpSpPr>
          <p:grpSp>
            <p:nvGrpSpPr>
              <p:cNvPr id="99" name=""/>
              <p:cNvGrpSpPr/>
              <p:nvPr/>
            </p:nvGrpSpPr>
            <p:grpSpPr>
              <a:xfrm>
                <a:off x="5392800" y="4157640"/>
                <a:ext cx="836640" cy="781920"/>
                <a:chOff x="5392800" y="4157640"/>
                <a:chExt cx="836640" cy="781920"/>
              </a:xfrm>
            </p:grpSpPr>
            <p:grpSp>
              <p:nvGrpSpPr>
                <p:cNvPr id="100" name=""/>
                <p:cNvGrpSpPr/>
                <p:nvPr/>
              </p:nvGrpSpPr>
              <p:grpSpPr>
                <a:xfrm>
                  <a:off x="5683680" y="4398480"/>
                  <a:ext cx="284400" cy="265680"/>
                  <a:chOff x="5683680" y="4398480"/>
                  <a:chExt cx="284400" cy="265680"/>
                </a:xfrm>
              </p:grpSpPr>
              <p:sp>
                <p:nvSpPr>
                  <p:cNvPr id="101" name=""/>
                  <p:cNvSpPr/>
                  <p:nvPr/>
                </p:nvSpPr>
                <p:spPr>
                  <a:xfrm>
                    <a:off x="5691960" y="4432680"/>
                    <a:ext cx="276120" cy="2314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 flipV="1">
                    <a:off x="5683680" y="4398480"/>
                    <a:ext cx="30600" cy="385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280" bIns="-8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3" name=""/>
                <p:cNvGrpSpPr/>
                <p:nvPr/>
              </p:nvGrpSpPr>
              <p:grpSpPr>
                <a:xfrm>
                  <a:off x="5392800" y="4157640"/>
                  <a:ext cx="836640" cy="781920"/>
                  <a:chOff x="5392800" y="4157640"/>
                  <a:chExt cx="836640" cy="781920"/>
                </a:xfrm>
              </p:grpSpPr>
              <p:grpSp>
                <p:nvGrpSpPr>
                  <p:cNvPr id="104" name=""/>
                  <p:cNvGrpSpPr/>
                  <p:nvPr/>
                </p:nvGrpSpPr>
                <p:grpSpPr>
                  <a:xfrm>
                    <a:off x="5396400" y="4158720"/>
                    <a:ext cx="284400" cy="265680"/>
                    <a:chOff x="5396400" y="4158720"/>
                    <a:chExt cx="284400" cy="265680"/>
                  </a:xfrm>
                </p:grpSpPr>
                <p:sp>
                  <p:nvSpPr>
                    <p:cNvPr id="105" name=""/>
                    <p:cNvSpPr/>
                    <p:nvPr/>
                  </p:nvSpPr>
                  <p:spPr>
                    <a:xfrm>
                      <a:off x="5404680" y="4192920"/>
                      <a:ext cx="276120" cy="23148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6" name=""/>
                    <p:cNvSpPr/>
                    <p:nvPr/>
                  </p:nvSpPr>
                  <p:spPr>
                    <a:xfrm flipV="1">
                      <a:off x="5396400" y="4158720"/>
                      <a:ext cx="30600" cy="3852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8280" bIns="-8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7" name=""/>
                  <p:cNvSpPr/>
                  <p:nvPr/>
                </p:nvSpPr>
                <p:spPr>
                  <a:xfrm>
                    <a:off x="5392800" y="4157640"/>
                    <a:ext cx="36360" cy="363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520" bIns="-205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>
                    <a:off x="5510160" y="4516560"/>
                    <a:ext cx="719280" cy="423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40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°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9" name=""/>
              <p:cNvGrpSpPr/>
              <p:nvPr/>
            </p:nvGrpSpPr>
            <p:grpSpPr>
              <a:xfrm>
                <a:off x="5958360" y="4630320"/>
                <a:ext cx="284400" cy="265680"/>
                <a:chOff x="5958360" y="4630320"/>
                <a:chExt cx="284400" cy="26568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5966640" y="4664520"/>
                  <a:ext cx="276120" cy="2314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 flipV="1">
                  <a:off x="5958360" y="4630320"/>
                  <a:ext cx="30600" cy="385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2" name=""/>
            <p:cNvSpPr/>
            <p:nvPr/>
          </p:nvSpPr>
          <p:spPr>
            <a:xfrm flipH="1">
              <a:off x="5958000" y="4726080"/>
              <a:ext cx="141840" cy="28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2932200" y="3666600"/>
            <a:ext cx="3033720" cy="1728360"/>
            <a:chOff x="2932200" y="3666600"/>
            <a:chExt cx="3033720" cy="1728360"/>
          </a:xfrm>
        </p:grpSpPr>
        <p:grpSp>
          <p:nvGrpSpPr>
            <p:cNvPr id="114" name=""/>
            <p:cNvGrpSpPr/>
            <p:nvPr/>
          </p:nvGrpSpPr>
          <p:grpSpPr>
            <a:xfrm>
              <a:off x="3438720" y="3666600"/>
              <a:ext cx="2527200" cy="1089000"/>
              <a:chOff x="3438720" y="3666600"/>
              <a:chExt cx="2527200" cy="1089000"/>
            </a:xfrm>
          </p:grpSpPr>
          <p:sp>
            <p:nvSpPr>
              <p:cNvPr id="115" name=""/>
              <p:cNvSpPr/>
              <p:nvPr/>
            </p:nvSpPr>
            <p:spPr>
              <a:xfrm>
                <a:off x="3438720" y="4184640"/>
                <a:ext cx="10796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V="1">
                <a:off x="3964320" y="3675960"/>
                <a:ext cx="0" cy="1079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4886640" y="4184640"/>
                <a:ext cx="10792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V="1">
                <a:off x="5411880" y="3666600"/>
                <a:ext cx="0" cy="1079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" name=""/>
              <p:cNvGrpSpPr/>
              <p:nvPr/>
            </p:nvGrpSpPr>
            <p:grpSpPr>
              <a:xfrm>
                <a:off x="3942000" y="4111560"/>
                <a:ext cx="1468440" cy="86760"/>
                <a:chOff x="3942000" y="4111560"/>
                <a:chExt cx="1468440" cy="86760"/>
              </a:xfrm>
            </p:grpSpPr>
            <p:grpSp>
              <p:nvGrpSpPr>
                <p:cNvPr id="120" name=""/>
                <p:cNvGrpSpPr/>
                <p:nvPr/>
              </p:nvGrpSpPr>
              <p:grpSpPr>
                <a:xfrm>
                  <a:off x="3965760" y="4111560"/>
                  <a:ext cx="1444680" cy="81720"/>
                  <a:chOff x="3965760" y="4111560"/>
                  <a:chExt cx="1444680" cy="81720"/>
                </a:xfrm>
              </p:grpSpPr>
              <p:grpSp>
                <p:nvGrpSpPr>
                  <p:cNvPr id="121" name=""/>
                  <p:cNvGrpSpPr/>
                  <p:nvPr/>
                </p:nvGrpSpPr>
                <p:grpSpPr>
                  <a:xfrm>
                    <a:off x="3965760" y="4111560"/>
                    <a:ext cx="1444680" cy="81720"/>
                    <a:chOff x="3965760" y="4111560"/>
                    <a:chExt cx="1444680" cy="81720"/>
                  </a:xfrm>
                </p:grpSpPr>
                <p:sp>
                  <p:nvSpPr>
                    <p:cNvPr id="122" name=""/>
                    <p:cNvSpPr/>
                    <p:nvPr/>
                  </p:nvSpPr>
                  <p:spPr>
                    <a:xfrm>
                      <a:off x="3965760" y="4184280"/>
                      <a:ext cx="360360" cy="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23" name=""/>
                    <p:cNvGrpSpPr/>
                    <p:nvPr/>
                  </p:nvGrpSpPr>
                  <p:grpSpPr>
                    <a:xfrm>
                      <a:off x="5050080" y="4111560"/>
                      <a:ext cx="360360" cy="70920"/>
                      <a:chOff x="5050080" y="4111560"/>
                      <a:chExt cx="360360" cy="70920"/>
                    </a:xfrm>
                  </p:grpSpPr>
                  <p:sp>
                    <p:nvSpPr>
                      <p:cNvPr id="124" name=""/>
                      <p:cNvSpPr/>
                      <p:nvPr/>
                    </p:nvSpPr>
                    <p:spPr>
                      <a:xfrm>
                        <a:off x="5050080" y="4182480"/>
                        <a:ext cx="360360" cy="0"/>
                      </a:xfrm>
                      <a:prstGeom prst="line">
                        <a:avLst/>
                      </a:prstGeom>
                      <a:ln w="1908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5" name=""/>
                      <p:cNvSpPr/>
                      <p:nvPr/>
                    </p:nvSpPr>
                    <p:spPr>
                      <a:xfrm>
                        <a:off x="5050080" y="4111560"/>
                        <a:ext cx="0" cy="70920"/>
                      </a:xfrm>
                      <a:prstGeom prst="line">
                        <a:avLst/>
                      </a:prstGeom>
                      <a:ln w="1908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4120" bIns="241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26" name=""/>
                    <p:cNvGrpSpPr/>
                    <p:nvPr/>
                  </p:nvGrpSpPr>
                  <p:grpSpPr>
                    <a:xfrm>
                      <a:off x="4694400" y="4122360"/>
                      <a:ext cx="360360" cy="70920"/>
                      <a:chOff x="4694400" y="4122360"/>
                      <a:chExt cx="360360" cy="70920"/>
                    </a:xfrm>
                  </p:grpSpPr>
                  <p:sp>
                    <p:nvSpPr>
                      <p:cNvPr id="127" name=""/>
                      <p:cNvSpPr/>
                      <p:nvPr/>
                    </p:nvSpPr>
                    <p:spPr>
                      <a:xfrm>
                        <a:off x="4694400" y="4183920"/>
                        <a:ext cx="360360" cy="0"/>
                      </a:xfrm>
                      <a:prstGeom prst="line">
                        <a:avLst/>
                      </a:prstGeom>
                      <a:ln w="1908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8" name=""/>
                      <p:cNvSpPr/>
                      <p:nvPr/>
                    </p:nvSpPr>
                    <p:spPr>
                      <a:xfrm>
                        <a:off x="4694400" y="4122360"/>
                        <a:ext cx="0" cy="70920"/>
                      </a:xfrm>
                      <a:prstGeom prst="line">
                        <a:avLst/>
                      </a:prstGeom>
                      <a:ln w="1908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4120" bIns="241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29" name=""/>
                    <p:cNvSpPr/>
                    <p:nvPr/>
                  </p:nvSpPr>
                  <p:spPr>
                    <a:xfrm>
                      <a:off x="4329360" y="4184280"/>
                      <a:ext cx="360360" cy="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0" name=""/>
                  <p:cNvSpPr/>
                  <p:nvPr/>
                </p:nvSpPr>
                <p:spPr>
                  <a:xfrm>
                    <a:off x="4329360" y="4112640"/>
                    <a:ext cx="0" cy="7128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1" name=""/>
                <p:cNvSpPr/>
                <p:nvPr/>
              </p:nvSpPr>
              <p:spPr>
                <a:xfrm>
                  <a:off x="3942000" y="4161960"/>
                  <a:ext cx="36360" cy="3636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"/>
            <p:cNvGrpSpPr/>
            <p:nvPr/>
          </p:nvGrpSpPr>
          <p:grpSpPr>
            <a:xfrm>
              <a:off x="2932200" y="4181760"/>
              <a:ext cx="1700280" cy="1213200"/>
              <a:chOff x="2932200" y="4181760"/>
              <a:chExt cx="1700280" cy="1213200"/>
            </a:xfrm>
          </p:grpSpPr>
          <p:grpSp>
            <p:nvGrpSpPr>
              <p:cNvPr id="133" name=""/>
              <p:cNvGrpSpPr/>
              <p:nvPr/>
            </p:nvGrpSpPr>
            <p:grpSpPr>
              <a:xfrm>
                <a:off x="2932200" y="4181760"/>
                <a:ext cx="1700280" cy="1213200"/>
                <a:chOff x="2932200" y="4181760"/>
                <a:chExt cx="1700280" cy="1213200"/>
              </a:xfrm>
            </p:grpSpPr>
            <p:grpSp>
              <p:nvGrpSpPr>
                <p:cNvPr id="134" name=""/>
                <p:cNvGrpSpPr/>
                <p:nvPr/>
              </p:nvGrpSpPr>
              <p:grpSpPr>
                <a:xfrm>
                  <a:off x="3424320" y="4181760"/>
                  <a:ext cx="530280" cy="904320"/>
                  <a:chOff x="3424320" y="4181760"/>
                  <a:chExt cx="530280" cy="904320"/>
                </a:xfrm>
              </p:grpSpPr>
              <p:grpSp>
                <p:nvGrpSpPr>
                  <p:cNvPr id="135" name=""/>
                  <p:cNvGrpSpPr/>
                  <p:nvPr/>
                </p:nvGrpSpPr>
                <p:grpSpPr>
                  <a:xfrm>
                    <a:off x="3773160" y="4181760"/>
                    <a:ext cx="181440" cy="322920"/>
                    <a:chOff x="3773160" y="4181760"/>
                    <a:chExt cx="181440" cy="322920"/>
                  </a:xfrm>
                </p:grpSpPr>
                <p:sp>
                  <p:nvSpPr>
                    <p:cNvPr id="136" name=""/>
                    <p:cNvSpPr/>
                    <p:nvPr/>
                  </p:nvSpPr>
                  <p:spPr>
                    <a:xfrm flipH="1">
                      <a:off x="3773160" y="4181760"/>
                      <a:ext cx="181440" cy="31392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7" name=""/>
                    <p:cNvSpPr/>
                    <p:nvPr/>
                  </p:nvSpPr>
                  <p:spPr>
                    <a:xfrm flipH="1" flipV="1">
                      <a:off x="3782880" y="4469040"/>
                      <a:ext cx="61920" cy="3564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8" name=""/>
                  <p:cNvGrpSpPr/>
                  <p:nvPr/>
                </p:nvGrpSpPr>
                <p:grpSpPr>
                  <a:xfrm>
                    <a:off x="3609720" y="4464720"/>
                    <a:ext cx="181440" cy="322920"/>
                    <a:chOff x="3609720" y="4464720"/>
                    <a:chExt cx="181440" cy="322920"/>
                  </a:xfrm>
                </p:grpSpPr>
                <p:sp>
                  <p:nvSpPr>
                    <p:cNvPr id="139" name=""/>
                    <p:cNvSpPr/>
                    <p:nvPr/>
                  </p:nvSpPr>
                  <p:spPr>
                    <a:xfrm flipH="1">
                      <a:off x="3609720" y="4464720"/>
                      <a:ext cx="181440" cy="31392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0" name=""/>
                    <p:cNvSpPr/>
                    <p:nvPr/>
                  </p:nvSpPr>
                  <p:spPr>
                    <a:xfrm flipH="1" flipV="1">
                      <a:off x="3619440" y="4752000"/>
                      <a:ext cx="61920" cy="3564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1" name=""/>
                  <p:cNvSpPr/>
                  <p:nvPr/>
                </p:nvSpPr>
                <p:spPr>
                  <a:xfrm flipH="1">
                    <a:off x="3441600" y="4738320"/>
                    <a:ext cx="181440" cy="31392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"/>
                  <p:cNvSpPr/>
                  <p:nvPr/>
                </p:nvSpPr>
                <p:spPr>
                  <a:xfrm>
                    <a:off x="3424320" y="5049720"/>
                    <a:ext cx="36360" cy="3636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520" bIns="-205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3" name=""/>
                <p:cNvSpPr/>
                <p:nvPr/>
              </p:nvSpPr>
              <p:spPr>
                <a:xfrm>
                  <a:off x="2932200" y="4971960"/>
                  <a:ext cx="115092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ff0000"/>
                      </a:solidFill>
                      <a:latin typeface="Arial"/>
                    </a:rPr>
                    <a:t>终点站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3624480" y="4410000"/>
                  <a:ext cx="1008000" cy="34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0000"/>
                      </a:solidFill>
                      <a:latin typeface="Arial"/>
                    </a:rPr>
                    <a:t>30</a:t>
                  </a:r>
                  <a:r>
                    <a:rPr b="0" lang="en-US" sz="1400" spc="-1" strike="noStrike">
                      <a:solidFill>
                        <a:srgbClr val="ff0000"/>
                      </a:solidFill>
                      <a:latin typeface="Arial"/>
                    </a:rPr>
                    <a:t>°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5" name=""/>
              <p:cNvSpPr/>
              <p:nvPr/>
            </p:nvSpPr>
            <p:spPr>
              <a:xfrm rot="7636800">
                <a:off x="3809160" y="4186080"/>
                <a:ext cx="107280" cy="285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512640" y="357120"/>
            <a:ext cx="613116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四、布置作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2"/>
          <p:cNvSpPr/>
          <p:nvPr/>
        </p:nvSpPr>
        <p:spPr>
          <a:xfrm>
            <a:off x="1104840" y="2362320"/>
            <a:ext cx="7788240" cy="12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作业：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27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页练习五，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题，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1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6T01:30:27Z</dcterms:created>
  <dc:creator>Administrator</dc:creator>
  <dc:description/>
  <dc:language>en-US</dc:language>
  <cp:lastModifiedBy/>
  <dcterms:modified xsi:type="dcterms:W3CDTF">2018-09-07T03:38:13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167</vt:lpwstr>
  </property>
</Properties>
</file>